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36F0-CC36-4C5B-B3C4-4524A6CB1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3337-35C8-4909-8BB3-DB0E5FA2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285-A884-44C7-A600-77440A52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566F-D856-47A7-84C9-F3150F82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22E3-7BAE-49F1-AAC1-39B1E0E4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8285-1FF2-4967-967C-1728A996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C0D8-C38D-428B-BBDD-0C43E52A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E766-C396-4486-AFEF-68D8F921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025F-6CC9-4F18-8830-D5AD5E8B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C985-6D74-420D-ADC9-1FA13D67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6B35-083A-4FA8-9D8B-FA58CB4A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CCC8-A7AC-4B59-9F56-00CC302C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54B9-6441-4022-81AE-82AA022F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36C6-002B-4E26-9FC3-4A955000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9F8A-3124-47F9-A468-1EA046BF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8422-F640-4784-AEA2-BC0627105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ED6A-C67A-46B0-B007-2403BAE8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3B332D-6CB5-44C3-8138-3EF1BEF7D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D08A61-F062-4690-9AF9-D98ACCBD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F3A3E9-B7C2-49BE-93C5-A0ACFFFD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CAE0B-443B-42E4-A336-0BFEB5A9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2672A2-7FB1-4532-8295-D44C5CE3C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91F3-6DE5-4DF6-9361-6BD06078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EC90F-763A-45DC-9C74-2F7B618B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B4C5B5-A725-461E-AC49-1C50AE01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32EB7-97E9-4DB2-93CC-580169FB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762536-6B94-46B3-9CF7-501C89CA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08309-55F9-4176-A5D7-7A26C316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C9B57-74E6-4B08-96B3-8CFF19E1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B87B7-A187-4115-9A78-B17F5303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84EB2-BB5A-418A-9186-9EEA9346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79F3A-9E85-4BC9-9D04-8F898731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43287-E972-41C1-A86D-CC5240D1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32A6-354B-4A72-A2C5-DF5DB863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A8755-1541-4B68-98A6-39E2B841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8DD7F-8DBB-46F2-8361-D7DFB31A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AC4BD-F25B-4913-9EB2-8471AE63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7EB13-7E1C-464D-882A-CB7BF1FB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7180F-F697-475C-A5A5-CD555D29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C9E3D-65FE-423D-8DB4-8B7F609C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4B9DC-7DEC-4D2F-B8A4-52D535BE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7D27B-B58D-49FD-82BE-BEE8FC99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3B978-A1D2-4724-9BF2-0F032C15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449EB-9781-49B5-B614-850921435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566-0B36-455C-B3A6-8BAA6BD5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D857C2-28B3-4337-BA70-5020627B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78400C-BA27-495B-9979-A6CE1E8D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1B722-41CF-43FC-A845-8AA04778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55E7A2-CBAF-412E-88C9-F3D249DC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42F03B-52A1-4E4D-8593-C0A1C8D0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EB143C-46B4-4F0D-9EA2-ED479015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FB0B21-E8E9-4C10-B12B-81D152E6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F7AC4E-963C-433D-8629-A2C0E95D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099F43-A8BF-4A3A-92A8-193F2449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28C78E-17E1-48F4-8EE0-D8B5EDF3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8898-7AE4-48C2-8F46-48B98BC8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73C873-1FDB-40ED-9227-ABA9DB34D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E1E7C6-126C-48F8-8A2A-1D898B080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EE8DF0-0E53-4BD2-979F-6AEE4D81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DE7E74-05A0-42A2-A1C3-34ACE815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66278B-AA0A-4AC7-9857-DF5B4A77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9CFC04-9D4B-4F5A-B7B2-6010D741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0F59B8-8A26-49F4-ABB1-6722D291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5F108B-60DD-4167-B80D-E69AA1ED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9E283-7B61-42AC-88FF-7FE0DBF7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0F72C7-8EF3-49BE-9381-D9653B10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DB15-8AAB-4138-AA60-EBEAEF10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C3481-B8D5-4FF0-B1CE-B89948A6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013158-874E-443B-AFA8-D0E25ACF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494425-9E97-4182-B8AA-FC20249D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7FE4BF-C6C6-417E-890B-F54D9046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47637D-FEFD-41F8-A7EA-4F8487CE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AD9BED-119C-4AC0-8BEF-994312B2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9898C4-79EB-4A61-B52A-49B1CD2E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19133C-1C24-4AE0-A2B7-FF48849C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BDDEEA-B17B-4EFF-8DE0-3734A6D3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91D61A-50EB-453F-905F-F46D6565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D28A-479A-4972-97A5-12AFB803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3B9AAC-2141-4304-B321-182BAA85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490EA5-14DA-4356-9269-55FD78E5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ED9926-4A47-4A40-BDD0-6211C1F7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DDF1AD-2A14-47B8-9270-E119DB2C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A17E8E-2BB9-4A1E-B858-A00CDFC9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4DE3-832E-4FC0-AFA7-3CEE4744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drep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Conector drep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ector drep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reptunghi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ector drep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C584-F325-4291-945A-3EBA760320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reptunghi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Dreptunghi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reptunghi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reptunghi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drep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ector drep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ector drep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ector drep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ector drep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ector drept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reptunghi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8D61-B6DD-4153-9B24-C143BA01EA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drep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ector drep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ector drep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reptunghi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ector drep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0F30-FD23-4B1A-8C9B-292AD38008C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reptunghi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reptunghi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reptunghi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reptunghi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ector drep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ector drep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ector drep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ector drep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drep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reptunghi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ector drept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C68D-5C15-42C3-B2B7-852F1298C06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drep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ector drep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ector drep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reptunghi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ector drep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0FCB-1072-4E0B-9D98-FB633CD8FE7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drep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ector drept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ector drept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ector drep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Dreptunghi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ector drep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9473-E839-4877-ABEA-22215755024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drep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ector drept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Dreptunghi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ector drept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ector drept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drept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95D3-FBDA-446A-B437-DBEA0A789ED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71280" y="2204640"/>
            <a:ext cx="734364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SORTAREA TABLOURILOR UNIDIMENSIONALE PRIN METODA BULELOR</a:t>
            </a:r>
            <a:br>
              <a:rPr sz="3600"/>
            </a:b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-BUBBLE SORT-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635280" y="5013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Arial"/>
              </a:rPr>
              <a:t>Prof. Sofroni Iu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575f6d"/>
                </a:solidFill>
                <a:latin typeface="Century Schoolbook"/>
              </a:rPr>
              <a:t>VARIABILE NECESAR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9528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a – tabloul unidimensional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n – lungimea tabloului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aux – pentru interschimbul elementelor (de acelaşi tip cu elementele tabloului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i – contor (utilizat pentru parcurgerea tabloului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 – variabilă logică (se utilizează pentru a şti dacă s-a făcut cel puţin o operaţie de interschimbare la parcurgerea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abloului false-nu s-a facut interschimbare, true- s-a facut interchimbare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575f6d"/>
                </a:solidFill>
                <a:latin typeface="Century Schoolbook"/>
              </a:rPr>
              <a:t>ALGORITMUL ÎN LIMBAJ </a:t>
            </a: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PSEUDOCOD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{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=1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(i=0;i&lt;n-1;i++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(a[i]&gt;a[i+1]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{  aux =a[i]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[i] =a[i+1]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[i+1]=aux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 =0;}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ile (!f);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PLICATIA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 se scrie un program care citeste un vector, il afiseaza, sorteaza crescator elementele acestuia si apoi il reafiseaza sorta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PLICATIA 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Dându-se un tablou cu n elemente numere naturale, şi o variabilă p naturală (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&lt;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n), să se sorteze crescător tabloul până la elementul p şi de la elementul p descrescăto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EM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Dându-se un tablou cu n elemente numere naturale, să se localizeze elementul maxim şi toate elementele dinaintea lui să se sorteze crescător, iar cele de după e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descrescăto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575f6d"/>
                </a:solidFill>
                <a:latin typeface="Century Schoolbook"/>
              </a:rPr>
              <a:t>SEMNIFICAŢIA NOŢIUNII DE SORTARE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3358800"/>
            <a:ext cx="8229600" cy="27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A sorta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 tablou înseamnă a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aranja elementele 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tabloulu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stfel 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încât între acestea să existe o relaţie de ordine (crescătoare sau descrescătoa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75f6d"/>
                </a:solidFill>
                <a:latin typeface="Century Schoolbook"/>
              </a:rPr>
              <a:t>DESCRIEREA METODEI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4360" y="2708280"/>
            <a:ext cx="77040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93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575f6d"/>
                </a:solidFill>
                <a:latin typeface="Century Schoolbook"/>
              </a:rPr>
              <a:t>Prin această metodă se parcurge </a:t>
            </a: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tabloul</a:t>
            </a:r>
            <a:r>
              <a:rPr b="1" lang="ro-RO" sz="2800" spc="-1" strike="noStrike">
                <a:solidFill>
                  <a:srgbClr val="575f6d"/>
                </a:solidFill>
                <a:latin typeface="Century Schoolbook"/>
              </a:rPr>
              <a:t> şi se compară fiecare element cu succesorul său. Dacă nu sunt în ordine, cele două elemente se interschimbă între ele. </a:t>
            </a: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Tabloul</a:t>
            </a:r>
            <a:r>
              <a:rPr b="1" lang="ro-RO" sz="2800" spc="-1" strike="noStrike">
                <a:solidFill>
                  <a:srgbClr val="575f6d"/>
                </a:solidFill>
                <a:latin typeface="Century Schoolbook"/>
              </a:rPr>
              <a:t> se parcurge de mai multe ori, până când, la o parcurgere completă, nu se mai execută nici</a:t>
            </a: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o-RO" sz="2800" spc="-1" strike="noStrike">
                <a:solidFill>
                  <a:srgbClr val="575f6d"/>
                </a:solidFill>
                <a:latin typeface="Century Schoolbook"/>
              </a:rPr>
              <a:t>o interschimbare între elemente (adică </a:t>
            </a: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tabloul</a:t>
            </a:r>
            <a:r>
              <a:rPr b="1" lang="ro-RO" sz="2800" spc="-1" strike="noStrike">
                <a:solidFill>
                  <a:srgbClr val="575f6d"/>
                </a:solidFill>
                <a:latin typeface="Century Schoolbook"/>
              </a:rPr>
              <a:t> este sortat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3819600" y="125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575f6d"/>
                </a:solidFill>
                <a:latin typeface="Century Schoolbook"/>
              </a:rPr>
              <a:t>ENUNŢUL PROBLEMEI:</a:t>
            </a:r>
            <a:br>
              <a:rPr sz="3400"/>
            </a:b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2352240"/>
            <a:ext cx="82296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Se dă un tablou 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 cu 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 elemente întregi. Să se realizeze sortarea crescătoare a elementelor tabloulu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8480" y="28728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75f6d"/>
                </a:solidFill>
                <a:latin typeface="Century Schoolbook"/>
              </a:rPr>
              <a:t>FIE TABLOUL UNIDIMENSIONAL A CE ARE URMĂTORUL CONŢINUT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219564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65308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450072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3348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3780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2556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6012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2"/>
          <p:cNvSpPr/>
          <p:nvPr/>
        </p:nvSpPr>
        <p:spPr>
          <a:xfrm>
            <a:off x="485928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6"/>
          <p:cNvSpPr/>
          <p:nvPr/>
        </p:nvSpPr>
        <p:spPr>
          <a:xfrm>
            <a:off x="6804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8"/>
          <p:cNvSpPr/>
          <p:nvPr/>
        </p:nvSpPr>
        <p:spPr>
          <a:xfrm>
            <a:off x="716436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AutoShape 20"/>
          <p:cNvCxnSpPr>
            <a:stCxn id="362" idx="2"/>
            <a:endCxn id="369" idx="2"/>
          </p:cNvCxnSpPr>
          <p:nvPr/>
        </p:nvCxnSpPr>
        <p:spPr>
          <a:xfrm flipH="1" rot="16200000">
            <a:off x="6802920" y="35143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2" name="AutoShape 21"/>
          <p:cNvCxnSpPr/>
          <p:nvPr/>
        </p:nvCxnSpPr>
        <p:spPr>
          <a:xfrm flipH="1" rot="16200000">
            <a:off x="3345480" y="3574800"/>
            <a:ext cx="216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3" name="AutoShape 22"/>
          <p:cNvCxnSpPr/>
          <p:nvPr/>
        </p:nvCxnSpPr>
        <p:spPr>
          <a:xfrm flipH="1" rot="16200000">
            <a:off x="4569480" y="3574800"/>
            <a:ext cx="216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4" name="AutoShape 23"/>
          <p:cNvCxnSpPr/>
          <p:nvPr/>
        </p:nvCxnSpPr>
        <p:spPr>
          <a:xfrm flipH="1" rot="16200000">
            <a:off x="5721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75" name="Text Box 27"/>
          <p:cNvSpPr/>
          <p:nvPr/>
        </p:nvSpPr>
        <p:spPr>
          <a:xfrm>
            <a:off x="1042920" y="314172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9179 L 1.94444E-006 -0.24115 E">
                                      <p:cBhvr>
                                        <p:cTn id="4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1.96532E-006 L 0.12587 -1.96532E-006 E">
                                      <p:cBhvr>
                                        <p:cTn id="44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24115 L -0.12605 -0.24115 E">
                                      <p:cBhvr>
                                        <p:cTn id="47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04 -0.24115 L -0.12604 -1.96532E-006 E">
                                      <p:cBhvr>
                                        <p:cTn id="50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8480" y="28728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75f6d"/>
                </a:solidFill>
                <a:latin typeface="Century Schoolbook"/>
              </a:rPr>
              <a:t>FIE TABLOUL UNIDIMENSIONAL A CE ARE URMĂTORUL CONŢINUT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19564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6804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450072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3348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3780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2556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6012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485928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565164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2"/>
          <p:cNvSpPr/>
          <p:nvPr/>
        </p:nvSpPr>
        <p:spPr>
          <a:xfrm>
            <a:off x="716436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AutoShape 14"/>
          <p:cNvCxnSpPr/>
          <p:nvPr/>
        </p:nvCxnSpPr>
        <p:spPr>
          <a:xfrm flipH="1" rot="16200000">
            <a:off x="3273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8" name="AutoShape 15"/>
          <p:cNvCxnSpPr/>
          <p:nvPr/>
        </p:nvCxnSpPr>
        <p:spPr>
          <a:xfrm flipH="1" rot="16200000">
            <a:off x="4497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9" name="AutoShape 16"/>
          <p:cNvCxnSpPr/>
          <p:nvPr/>
        </p:nvCxnSpPr>
        <p:spPr>
          <a:xfrm flipH="1" rot="16200000">
            <a:off x="5721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0" name="AutoShape 17"/>
          <p:cNvCxnSpPr/>
          <p:nvPr/>
        </p:nvCxnSpPr>
        <p:spPr>
          <a:xfrm flipH="1" rot="16200000">
            <a:off x="6945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1" name="Text Box 18"/>
          <p:cNvSpPr/>
          <p:nvPr/>
        </p:nvSpPr>
        <p:spPr>
          <a:xfrm>
            <a:off x="1042920" y="314172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96532E-006 L 3.61111E-006 -0.2726 E">
                                      <p:cBhvr>
                                        <p:cTn id="85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96532E-006 L 0.12587 -1.96532E-006 E">
                                      <p:cBhvr>
                                        <p:cTn id="88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0.2726 L -0.12587 -0.2726 E">
                                      <p:cBhvr>
                                        <p:cTn id="91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587 -0.2726 L -0.12587 -1.96532E-006 E">
                                      <p:cBhvr>
                                        <p:cTn id="94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8480" y="28728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75f6d"/>
                </a:solidFill>
                <a:latin typeface="Century Schoolbook"/>
              </a:rPr>
              <a:t>FIE TABLOUL UNIDIMENSIONAL A CE ARE URMĂTORUL CONŢINUT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219564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6804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450072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3348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3780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2556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6012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485928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565164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716436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AutoShape 13"/>
          <p:cNvCxnSpPr/>
          <p:nvPr/>
        </p:nvCxnSpPr>
        <p:spPr>
          <a:xfrm flipH="1" rot="16200000">
            <a:off x="3273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4" name="AutoShape 14"/>
          <p:cNvCxnSpPr/>
          <p:nvPr/>
        </p:nvCxnSpPr>
        <p:spPr>
          <a:xfrm flipH="1" rot="16200000">
            <a:off x="4497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5" name="AutoShape 15"/>
          <p:cNvCxnSpPr/>
          <p:nvPr/>
        </p:nvCxnSpPr>
        <p:spPr>
          <a:xfrm flipH="1" rot="16200000">
            <a:off x="5721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6" name="AutoShape 16"/>
          <p:cNvCxnSpPr/>
          <p:nvPr/>
        </p:nvCxnSpPr>
        <p:spPr>
          <a:xfrm flipH="1" rot="16200000">
            <a:off x="6945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7" name="Text Box 17"/>
          <p:cNvSpPr/>
          <p:nvPr/>
        </p:nvSpPr>
        <p:spPr>
          <a:xfrm>
            <a:off x="1042920" y="314172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96532E-006 L 1.66667E-006 -0.1993 E">
                                      <p:cBhvr>
                                        <p:cTn id="130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-1.96532E-006 L 0.12604 -1.96532E-006 E">
                                      <p:cBhvr>
                                        <p:cTn id="133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0.1993 L -0.12604 -0.1993 E">
                                      <p:cBhvr>
                                        <p:cTn id="136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04 -0.1993 L -0.12604 -1.96532E-006 E">
                                      <p:cBhvr>
                                        <p:cTn id="139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8480" y="28728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75f6d"/>
                </a:solidFill>
                <a:latin typeface="Century Schoolbook"/>
              </a:rPr>
              <a:t>FIE TABLOUL UNIDIMENSIONAL A CE ARE URMĂTORUL CONŢINUT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219564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804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450072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3348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3780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2556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6012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485928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565164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2"/>
          <p:cNvSpPr/>
          <p:nvPr/>
        </p:nvSpPr>
        <p:spPr>
          <a:xfrm>
            <a:off x="716436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AutoShape 13"/>
          <p:cNvCxnSpPr/>
          <p:nvPr/>
        </p:nvCxnSpPr>
        <p:spPr>
          <a:xfrm flipH="1" rot="16200000">
            <a:off x="3273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0" name="AutoShape 14"/>
          <p:cNvCxnSpPr/>
          <p:nvPr/>
        </p:nvCxnSpPr>
        <p:spPr>
          <a:xfrm flipH="1" rot="16200000">
            <a:off x="4497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1" name="AutoShape 15"/>
          <p:cNvCxnSpPr/>
          <p:nvPr/>
        </p:nvCxnSpPr>
        <p:spPr>
          <a:xfrm flipH="1" rot="16200000">
            <a:off x="5721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2" name="AutoShape 16"/>
          <p:cNvCxnSpPr/>
          <p:nvPr/>
        </p:nvCxnSpPr>
        <p:spPr>
          <a:xfrm flipH="1" rot="16200000">
            <a:off x="6945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Text Box 17"/>
          <p:cNvSpPr/>
          <p:nvPr/>
        </p:nvSpPr>
        <p:spPr>
          <a:xfrm>
            <a:off x="1042920" y="314172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96532E-006 L 3.33333E-006 -0.22034 E">
                                      <p:cBhvr>
                                        <p:cTn id="174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96532E-006 L 0.12605 -1.96532E-006 E">
                                      <p:cBhvr>
                                        <p:cTn id="177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22035 L -0.12604 -0.22035 E">
                                      <p:cBhvr>
                                        <p:cTn id="180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04 -0.22034 L -0.12604 -1.96532E-006 E">
                                      <p:cBhvr>
                                        <p:cTn id="183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8480" y="28728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575f6d"/>
                </a:solidFill>
                <a:latin typeface="Century Schoolbook"/>
              </a:rPr>
              <a:t>FIE TABLOUL UNIDIMENSIONAL A CE ARE URMĂTORUL CONŢINUT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19564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6804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450072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3348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3780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2556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6012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485928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1"/>
          <p:cNvSpPr/>
          <p:nvPr/>
        </p:nvSpPr>
        <p:spPr>
          <a:xfrm>
            <a:off x="565164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716436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AutoShape 13"/>
          <p:cNvCxnSpPr/>
          <p:nvPr/>
        </p:nvCxnSpPr>
        <p:spPr>
          <a:xfrm flipH="1" rot="16200000">
            <a:off x="3273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6" name="AutoShape 14"/>
          <p:cNvCxnSpPr/>
          <p:nvPr/>
        </p:nvCxnSpPr>
        <p:spPr>
          <a:xfrm flipH="1" rot="16200000">
            <a:off x="4497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7" name="AutoShape 15"/>
          <p:cNvCxnSpPr/>
          <p:nvPr/>
        </p:nvCxnSpPr>
        <p:spPr>
          <a:xfrm flipH="1" rot="16200000">
            <a:off x="5721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8" name="AutoShape 16"/>
          <p:cNvCxnSpPr/>
          <p:nvPr/>
        </p:nvCxnSpPr>
        <p:spPr>
          <a:xfrm flipH="1" rot="16200000">
            <a:off x="6945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39" name="Text Box 17"/>
          <p:cNvSpPr/>
          <p:nvPr/>
        </p:nvSpPr>
        <p:spPr>
          <a:xfrm>
            <a:off x="1042920" y="314172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06:32:01Z</dcterms:created>
  <dc:creator>Syseng</dc:creator>
  <dc:description/>
  <dc:language>en-US</dc:language>
  <cp:lastModifiedBy>Elev</cp:lastModifiedBy>
  <dcterms:modified xsi:type="dcterms:W3CDTF">2013-04-29T07:29:23Z</dcterms:modified>
  <cp:revision>23</cp:revision>
  <dc:subject/>
  <dc:title>SORTAREA PRIN METODA BULELOR</dc:title>
</cp:coreProperties>
</file>